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1AC-F35D-4B1D-AF0E-18A69BE1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FB6-3301-41DE-B62F-ED4F4AE2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854-36C4-424D-850A-E14B7CD8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11A-6713-4169-B28F-D9DFC4BB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8F00-7842-483A-95D5-C0B1543B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8696-8284-4F69-ADE0-8648D046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F641-68E5-4C60-9340-3CA0A6C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2B3B-016D-4267-9652-C2556C0B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65D8-AA30-4020-9B0A-48B594B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058F-CC35-4130-B02A-ED416497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BB35-9377-4C8E-8F4D-BA1A299E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D1B-9AA4-4D4E-B249-7EFBE493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4CAA-4258-4ABC-8AFC-9287C10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26A-F7F9-4280-A361-D6A01FA1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832-7725-40D7-B24B-328355BB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4A2A-02F8-4465-9605-F0B8E249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96A-12D9-42A7-95F9-A330202D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1C5-1F50-4675-B61E-A28D5E8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47D-3E18-4815-862E-E486A18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8B3-A58D-4DCB-8AA7-FF718F37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04D-C344-462C-942C-96F54435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8B0-2120-4590-9543-EBFD74B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90D-1CD9-48F9-A683-3386908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795-D138-4007-A426-48B7341A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8FE-8307-4BFD-8A1A-E4732A041996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71D5-5AB4-441F-9742-BCBF53480543}" type="slidenum">
              <a:rPr b="0" lang="lt-L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D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Ė</a:t>
            </a:r>
            <a:r>
              <a:rPr b="0" lang="en-US" sz="4400" spc="-1" strike="noStrike">
                <a:solidFill>
                  <a:srgbClr val="330033"/>
                </a:solidFill>
                <a:latin typeface="Tahoma"/>
              </a:rPr>
              <a:t>MESYS</a:t>
            </a:r>
            <a:r>
              <a:rPr b="0" lang="lt-LT" sz="4400" spc="-1" strike="noStrike">
                <a:solidFill>
                  <a:srgbClr val="330033"/>
                </a:solidFill>
                <a:latin typeface="Tahoma"/>
              </a:rPr>
              <a:t> ir ATMINTIS</a:t>
            </a:r>
            <a:endParaRPr b="0" lang="en-US" sz="44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Užmiršimas priklauso nuo: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siminimo tvirt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Užmiršimą skatinančių veiksn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Laikomos informacijos panaudojimo praktinėje veikloje: kuo mažiau naudojame, tuo greičiau užmiršt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nterferencija (proaktyvioji/retroaktyvioji) - informacijos persidengimas, susimaišym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artojimo stok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ituaci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Nuostatos pasikeit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Smegenų pažeidima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Pagal informacijos laikymo trukmę atmintis skirstoma į: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Jutiminę/sensoninę atmintį (SA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Trumpalaikę atmintį (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Ilgalaikę atmintį (I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ATMIN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ties gerin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dalinimas prasminiais gabal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ės prasmės suteikimas - vaizduotės pasitelkimas (asociacij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nagrinė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tyvus kartoj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ksl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nteksto reikšmė (tos pačios aplinkybė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džiagos organ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ktikavimasis (atsimin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terferencijos maž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QRST metodas (medžiagos peržiūrėjimas, klausimai, skaitymas, pakartojimas s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testa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n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a – vis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škas ar dalinis atminties prara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etaatmintis – savo paties atminties sistemos žinoj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YS 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ėmesy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— savitas individo nervų sistemos mechanizmas, užtikrinantis jam efektyvų psichinės veiklos organizuotu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ėmesys – tai procesas, kuris leidžia išskirti objektus ar stimulus iš daugelio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objekt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į ką sutelktas dėme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Dėmesio fona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– tai, kas supa objekt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VEIKSNIAI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veiksniai, kurie skatina ar slopina dėmes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imulų intens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uj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palvin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truktūrišk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iniai: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asmenybės kryptingumas (poreikiai, interesai) ir su juo susiję veiklos tiksl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RŪŠY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išankstinį dėmesio krypties pasirinki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nevalingas, valingas, savaimin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gal platumą: </a:t>
            </a: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selektyvus ir paskirsty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Dėmesio savybė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ntensyvumas/koncentracija &lt; &gt; svyravimas, išsek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tvar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apim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a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o perkėlimas &lt; &gt; klamp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ing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TMINTI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s – tai sugebėjimas įsiminti, laikyti ir po kiek laiko atgaminti gautą informacij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tminties procesai: įsiminimas, saugojimas, atsiminimas. Užmirši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Įsiminima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tai užkodavimas, suteikiant gautai informacijai formą ir įvedimas į atmint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Nevalingas (automatišk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ling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Mechaninis arba prasminis/semantin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Vaizdiniai (regimasis kodavima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Informacijos sutvarky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UŽMIRŠIMAS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tai atminties procesas, dėl kurio suvoktos ir užkoduotos informacijos negalime prisimi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800" spc="-1" strike="noStrike">
                <a:solidFill>
                  <a:srgbClr val="330033"/>
                </a:solidFill>
                <a:latin typeface="Tahoma"/>
              </a:rPr>
              <a:t>H.Ebbinghauso užmiršimo kreivė</a:t>
            </a:r>
            <a:endParaRPr b="0" lang="en-US" sz="38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8:49:57Z</dcterms:created>
  <dc:creator>TADAS</dc:creator>
  <dc:description/>
  <dc:language>en-US</dc:language>
  <cp:lastModifiedBy> </cp:lastModifiedBy>
  <dcterms:modified xsi:type="dcterms:W3CDTF">2007-10-24T20:22:40Z</dcterms:modified>
  <cp:revision>14</cp:revision>
  <dc:subject/>
  <dc:title>ATMINTIS IR DĖMESYS</dc:title>
</cp:coreProperties>
</file>